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AB2AB-9CEB-4298-900C-20DB803CFF40}"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BBB27-E2C4-4A38-9D9E-F0AD97403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85680" y="741240"/>
            <a:ext cx="4886640" cy="3665520"/>
          </a:xfrm>
          <a:prstGeom prst="rect">
            <a:avLst/>
          </a:prstGeom>
          <a:ln w="0">
            <a:noFill/>
          </a:ln>
        </p:spPr>
      </p:sp>
      <p:sp>
        <p:nvSpPr>
          <p:cNvPr id="1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5AD05-FA45-43AA-8896-059BD4953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01BD9-419D-4EE2-AD68-FF688A2D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5CC57-9590-4F13-B2D4-9C702EFB7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806CA-5E23-49CB-9488-F7984CFD5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CF071-7271-49CB-AF75-E79573B94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99274-1FAF-43A8-92D0-E964E26CA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7DB9D-ADAF-41A6-85F6-2D7BB5609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60DAC-56A4-433C-8DAC-C68D14491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A5586-3E01-46B8-A872-1BF48A179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0E0B9-4FA8-444F-9AAD-096424681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7A7FD-C82A-4E11-ADD5-588EBF03F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FAD47-CC15-47A1-84B7-30EBABCA0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0D868-D6C7-4197-AC73-A05F3E6AE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97D19-440A-4E4B-9BE2-C5552F8EA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E07DA-0B1B-473B-9075-A01696752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0F637-F34A-4B7C-B1DB-C92B58954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6F248-178F-44E6-895E-288028777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C67E8-BC88-442B-952C-A90DB3E97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F6B0E-31BA-4DCB-8758-3C523A742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EB25E-3162-4C5C-AB75-12123AE5B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D87A4-F7AC-4887-8809-AAD546F43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CB93A-D4D5-471A-8FE6-DC7CBFF0F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6B128-0911-46F0-A295-0861EE4C0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858FD-D0B1-44FE-AB7C-B131B79B0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2B017-FEF2-45A3-9007-20B144350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108EE-3E79-4766-92B7-89437821E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32E8B-198C-45F1-8A2E-3CA86E540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03B94-3222-435A-A0DC-94F233174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9DD3A-FB64-414E-9132-BA5FB3940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63329-941F-433D-A500-A56A211DA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85680" y="741240"/>
            <a:ext cx="4886640" cy="3665520"/>
          </a:xfrm>
          <a:prstGeom prst="rect">
            <a:avLst/>
          </a:prstGeom>
          <a:ln w="0">
            <a:noFill/>
          </a:ln>
        </p:spPr>
      </p:sp>
      <p:sp>
        <p:nvSpPr>
          <p:cNvPr id="1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5313D-3889-4246-ACB1-ACFD46AF5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73020-559B-4EB4-9E44-556FF6CEA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30AAD-F89B-4310-AF93-94A931B32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FE378-FB4D-4535-8B14-348FE2C9C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0E907-543D-476D-ACE8-098D95BBE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24CFB-82C1-488C-875D-FD3C5E4BF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49807-A486-42FF-B708-F0CEB114F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DF859-DC35-4E66-8227-BCA9BD707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AAE72-9825-4A43-A803-4B2BE4E15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EE308-488E-49E8-908E-001224E44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35154-020A-4E70-8676-85E33FF3C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985680" y="741240"/>
            <a:ext cx="4886640" cy="3665520"/>
          </a:xfrm>
          <a:prstGeom prst="rect">
            <a:avLst/>
          </a:prstGeom>
          <a:ln w="0">
            <a:noFill/>
          </a:ln>
        </p:spPr>
      </p:sp>
      <p:sp>
        <p:nvSpPr>
          <p:cNvPr id="1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D3CE3-83CC-46D4-A358-F805C5836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D3B33-E78F-4AB1-BD90-DD0DD26AC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FAD9C-5BAA-4D7E-A9E8-1691BB898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CF1E7-4028-4E47-932C-65BAE5659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A1F50-FDB0-4143-AADB-271C08F25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4E76C-9854-41BB-806E-771666C3C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E49B2-CC0B-4B5E-96D2-08AF62933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7DA99-DC7E-4388-8BDC-CB8FF1D2C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E4A30-451E-47C9-98BD-4262B3A48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733C4-E160-4B49-9381-E0110CA9C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571DE-7AB1-420C-A688-3CFB52F59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85680" y="741240"/>
            <a:ext cx="4886640" cy="3665520"/>
          </a:xfrm>
          <a:prstGeom prst="rect">
            <a:avLst/>
          </a:prstGeom>
          <a:ln w="0">
            <a:noFill/>
          </a:ln>
        </p:spPr>
      </p:sp>
      <p:sp>
        <p:nvSpPr>
          <p:cNvPr id="16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D5AAF-C6AA-4960-BFD7-B9D7B0194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763A5-FF4B-42C3-B2BB-6403422B0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797B0-90E9-4D3F-B1A4-7E60DB8B9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F1735-6165-4BA6-BFCD-CCBF1FF28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3D022-77F4-4DA2-A7FF-45A8EBFFC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BBD48-83B3-4A9B-AFD7-2C49F655E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4722F-3533-4D61-809E-6957010EE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E97BD-42D5-4494-93E7-B0BAC80DD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C0F3E-35F8-4C58-BDFE-05D3A1EE8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C7080-72A5-41D8-AE4E-6CB286BD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056F3-9D4E-49A7-B0AD-6A2249E2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985680" y="741240"/>
            <a:ext cx="4886640" cy="3665520"/>
          </a:xfrm>
          <a:prstGeom prst="rect">
            <a:avLst/>
          </a:prstGeom>
          <a:ln w="0">
            <a:noFill/>
          </a:ln>
        </p:spPr>
      </p:sp>
      <p:sp>
        <p:nvSpPr>
          <p:cNvPr id="16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3E9D3-3F68-495D-BEB7-18CAC18F2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558F9-B086-496E-B200-2ADA9117B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2A425-C03C-4947-9712-32180F7F4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BBEE7-6346-40BC-ACB1-1D3B7309D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532A0-6699-4288-B70A-F62328EF2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1A9AF-8E92-4D9C-B0A8-36AFF9B85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B5F0E-7F77-496C-8F56-5BC7BF376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4871C-A109-4FDB-AFC5-6124B45D5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CBC9C-4090-4B9E-BA42-4F03E00C5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58B52-1D14-4DA6-8BCD-896B8C125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9EDFB-C022-41E5-8323-1A9094B8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85680" y="741240"/>
            <a:ext cx="4886640" cy="3665520"/>
          </a:xfrm>
          <a:prstGeom prst="rect">
            <a:avLst/>
          </a:prstGeom>
          <a:ln w="0">
            <a:noFill/>
          </a:ln>
        </p:spPr>
      </p:sp>
      <p:sp>
        <p:nvSpPr>
          <p:cNvPr id="1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7E450-51B0-4A12-B8E8-5F9105E33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AB0B3-2BE3-4ADD-B6FD-C88DD6FF6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F8170-874F-489B-B3B7-309ED346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CBD4C-B7F4-41A0-8CAA-5DD25EEFB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E8812-5284-4DB6-ACC7-F1C164B60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4AC13-2F05-466F-94F2-970C1037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BE547-7B9E-4F37-B050-E321CF712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BE66F-C8ED-4BDA-A20E-0C9E84F5A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6057D-074D-4BC8-A9A7-1BBD28E7F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2BD4D-E56E-4FC4-B68C-B50342BB0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0DEAD-53F0-40C1-8BE8-7A7B4FDA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985680" y="741240"/>
            <a:ext cx="4886640" cy="3665520"/>
          </a:xfrm>
          <a:prstGeom prst="rect">
            <a:avLst/>
          </a:prstGeom>
          <a:ln w="0">
            <a:noFill/>
          </a:ln>
        </p:spPr>
      </p:sp>
      <p:sp>
        <p:nvSpPr>
          <p:cNvPr id="1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8DD18-DE3E-4F77-8D83-F1090F5AE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442D7-69EC-499B-84B8-E12A4E422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14CA4-511B-4898-8963-2C10D0CA5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AF920-D269-4A69-BECE-29537ABDB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98D0A-1D3E-46CD-8395-3CF51F286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18F22-9E30-46C2-8C47-C2ACA9E04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B6E0F-2537-445C-8729-2CF7DC4B7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E0B20-54FA-4480-92EF-277FBCCF5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4C691-791E-45A5-8087-699B12CBA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4369F-C9FD-401E-A943-1E918C6BD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8770E-455F-4F8C-AC24-B2D678B08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85680" y="741240"/>
            <a:ext cx="4886640" cy="3665520"/>
          </a:xfrm>
          <a:prstGeom prst="rect">
            <a:avLst/>
          </a:prstGeom>
          <a:ln w="0">
            <a:noFill/>
          </a:ln>
        </p:spPr>
      </p:sp>
      <p:sp>
        <p:nvSpPr>
          <p:cNvPr id="1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BEF55-7871-47EC-BD84-23B33CDFD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DDAFA-03DF-4B6A-8083-6C5C8C6C1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9AFDA-173B-469B-AA18-A84052292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0408D-ABCF-41FC-89AC-CA5BABB5E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EF3CD-0433-4ECA-82F1-F79FEF3AE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C3CDE-B491-4282-BAC3-896A92598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ECCC0-1900-46A4-85B6-3A1FBB09E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21ABB-2159-426F-BF87-AE77A4341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3C5F6-7205-426D-8140-8981D2688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3A470-0CE1-46B3-9ACF-EE8FBA4E7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D16E4-FA0E-471D-8348-4B4153176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985680" y="741240"/>
            <a:ext cx="4886640" cy="3665520"/>
          </a:xfrm>
          <a:prstGeom prst="rect">
            <a:avLst/>
          </a:prstGeom>
          <a:ln w="0">
            <a:noFill/>
          </a:ln>
        </p:spPr>
      </p:sp>
      <p:sp>
        <p:nvSpPr>
          <p:cNvPr id="16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B5843-F831-4E46-932F-FDED06362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A3969-43B7-4245-8292-479131EE0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D3283-2B0E-42FE-8758-259B7C6CE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A38C5-9689-4E12-B6D2-2B420858F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12D93-1975-409E-BDA4-368770CE6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5D969-4F29-40CE-99E6-5C5E8FDFF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FD139-FF3E-4977-BD60-77A73BB1C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4B406-318D-4081-9B4A-FF20075CF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9606B-8BDF-4EB5-B9BE-253C14164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7913E-6C48-4F18-9388-06E9057DD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F2FDC-1E5D-4708-9646-D50F15993B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D71EB5F-2221-4495-BDE0-0967F419D42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C3D3669-9EF2-42F6-B688-9107E107E2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18A6648-8E29-4283-ABF4-72C33E14C4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1523476-A8A6-47EB-AA99-C618DBED4D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26A469F-E660-48FB-9C87-5414EB41FF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8B53959-800A-4DE3-8140-9FECB4F7EB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2484AAF-E84E-4FA4-AF1E-4958C1B32A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8EFE90D-17D8-4FF0-B8C4-92E711245A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1F6EAAA-849B-43CC-8590-D39F6E3B4F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D097EC0-3101-4256-8797-9FD6122F48F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A472E90-BD3C-4224-9223-B77A78B74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4EA929B-EF9D-40CC-B4C8-E3A697777F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F80E521-533F-4C0A-8AAA-9375336D8A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8DCD723-79F4-4718-B160-9CFAB788F1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C31DBC9-E88C-47EA-9C2E-155C40BF5E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AC59C21-4632-49BF-9BB4-2DF99B96570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B61B180-CBF3-4727-9CBE-ADBFC3D87E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09C904A-330C-48E1-AFEC-244AEEBB61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78C7823-299A-47D8-B026-9B73215AC5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9FD372F-6D7A-42B6-82AE-813644496A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F75C293-8DDD-4E89-9585-9D3BEB629F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CFE9AD6-7048-4A28-A33E-D19003F37C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C3B8330-8F91-4500-B3A1-7140E1E8FE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8F5C80C-8856-4F6E-BFD9-CFA172FFD3B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0CFAB52-7338-45E7-AB64-214542E380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E57DE70-5131-4A2F-A090-C83091A154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843B68C-4025-45C9-A1EA-2BE93B99B5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5528523-C0F0-4219-92D4-31D2F46641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623962A-EC82-439D-AAD9-84DB93969F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4EE6BAB8-52CE-4FB4-A9FC-97FFBB6FCF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4CF9025-837A-4E1F-B674-01FB4665EB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D271871-7FFA-4FAB-9997-BB9C1AC896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14F13EB-5524-41EA-9F5A-F029B1BC50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CE84D-206C-4482-8033-AC00811EC7C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0AABEF2-72E6-4263-92AE-BF2F8D0CA6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915E2EB-D3A8-433E-86DB-A458E6AE09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5D9061F-31EC-4C94-8DB4-4D41AB6B32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A524C2C-4278-4945-9627-400B0FF28DA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5602294-48CC-4185-9873-9C03217FC0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90F15EB-598A-46AD-98C7-08686EB9DB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CFE7A5E-8914-4DAA-B5DD-144BA4E356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EA7459C-BE73-4C35-B422-38ED9BF910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2A40653-EAEE-4E51-A387-5302F994CF5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100A169-2B3D-46F5-B955-75186B3EDC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EF27E81-6C06-4672-8233-59D8C113F5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90B46A0-33C6-4DC9-9BD2-DCE7CEDF00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7DEFBC6-F338-4763-9A6B-FB977B476A9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BDF9245-ABA8-463C-997C-F9E5BF68F8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727B79A-8BFD-4AA7-B062-CE1A423E13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F426BAE-C857-494A-B5BE-55C667A33C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801BDFB-76E7-4B22-BF99-B0332850BB9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EF1EDB3-08C7-43FF-9E74-8D87F559F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912ECEC-2F78-4B36-8C52-9C6D1331C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F2B2127-9AC6-47C4-B4B7-592D6AA1D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565D418-4572-4D2D-B053-021F9F524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8793FB7-567F-451C-9D9D-A77CD6E8F3A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1B85D41-2869-4878-9451-FB00B3E049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5A2E1FD-A66F-48CE-B650-E9010A0EE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883CAE6-AFFC-4051-8E7B-7116A558C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A642587-3806-45D7-8B11-8F00D1833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6071641-4787-4B1E-8553-23A811A901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624FFA1-D456-4ED3-B0FB-BD3DD1A19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CF5A7F9-2CD6-4C82-AD8A-AEF189D87DB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4D111E-5835-43AC-BEFF-1F4F2CF3FD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825401E-4E78-496E-A004-59295FC683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3E78F4B-7563-4F58-B8CB-4AC281D80F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4BB15CC-9753-490E-A8F2-A36ECCD61A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4009D29-CFBE-4953-AEA5-17904D911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1E61FC-A3B4-4E8A-9BCE-AE8528EFAC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D895A69-6E5E-4AC0-97DD-8EA9878FB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5183D64-955D-4F62-AC92-E3984384BA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7830D8F-FDEF-49D9-88EE-FC35CE9712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88D819C-DA10-49F3-993A-E6A0206653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87429B-5C4D-4998-94DE-FC8D71BAA6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32E2BF-6281-4E24-B61B-411D3CB200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A9D362-7D34-403D-950B-679723DD43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08E64A1-1603-4F5A-A254-7EFB0C54C1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49F338-A5F1-43E1-B417-C4A5E971F7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D919FA3-34C7-4458-9FC0-6D73D029F6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7643589-8A83-49FF-BCBD-8F46B0B2D3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83F8279-098D-4AEA-9DAB-B4D29B0D59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D653882-773C-4271-8AB8-DD04D886BA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ED8F3C1-56E0-4A41-AF58-FE0B033A2E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C4B8DE6-742A-46F7-8521-340F262DCF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47A01E5-0047-4F09-B582-41793EE062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FFE0881-00C9-4638-9A92-8CB8D2C791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8DEDD8-F5FB-4B01-8E41-E850223BCE1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8FDF8E8-33FA-49CD-A150-8CF567CB4C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5BB11E8-4854-44E0-AC19-92406CEF5F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426FBFD-21D2-4B92-AD27-CD596BEC54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A24A2E6-A0F4-45C0-9B67-2605550FE73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84B94A7-E99E-4A8B-9D26-71B9872729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A5D07D9-2633-4F3E-8B6A-257630415B4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AE64EDE-7AB3-4FA1-A75B-586DE9A804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E6350C7-641F-43C2-8531-77EBAB8BFE9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967889C-3D7F-4809-8313-8BCB228861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C6D8893-271C-46CA-AE70-49EF5FDABA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6569CF9-08F2-43E0-86EC-3579CD0FEB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16DD348-2A99-4F0A-AD2B-D889F0B227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8CEB5B1-17F5-44A5-8343-AFD758605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A3B76DA-4ADC-4FB4-8618-4270FB146E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11B7CAF-E4DE-43B4-9973-1522CA5377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32FCC98-4519-481E-BBF3-AD28492D37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0E637F2-66F7-4F1F-A552-CB2028A60A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382BDD4-969E-4D52-BD94-1C27D0F213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39CC991-8B49-4480-A7EE-FC4C275AE1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387EBFD-C7A6-4CD6-A3B0-D6EE32A559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DF5A516-7D49-4C90-8682-0ED8CBCC3D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E33075D-0433-4213-A28A-B7CCBDAFE2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93DDB7D-3CBB-4832-9382-D0B17738D70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747193B-55CE-4DE1-BF09-1F6E130AD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AF4D629-004A-42FC-9D17-D4286BCE3B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DF3AA14-B7E0-4AD8-9FC9-0D4E3DECB9A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7234A1-8993-4BE8-B4A7-F08D50CECD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A03D2E9-8C04-4EED-8354-8B34F6D9EBD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C9DAD73-D604-4101-A847-FB384ACE7B6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04BF848-B32D-40B7-9C83-9E4F92527C8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794FA4B-17A0-4030-8D06-681FE989AC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88D70AC-6091-4B03-9B9F-57047B68EBA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7F61672-27CC-42B3-931D-543E9DC60A6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0E5C54B-2E47-4148-A7A1-0EAC50564E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48B5AEF-F729-401B-AF98-D2E913E58D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65F9A2-ED80-4085-9D68-5543BC4163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36BF77A-6726-43CA-A454-E514980537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439F9541-FBDF-4B2D-933A-550C88C8F0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9356D9F-08BC-4E92-90FF-EC1923C6607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8F4A64-C0B7-428A-97B4-78C3867C95F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5C74B67-06C6-4DFE-B224-CF34DB60282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3A928D8-25E0-4070-83E7-54D640308FB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2E09767-F963-42AE-82E8-D639BEA309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4152F31-A0BF-4B30-A4FA-ABE311C09EC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738D7AF-4A81-427F-AAF4-9A6BE1268E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CAC765D-E2C6-4AEB-BAAA-07B9BC7A7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BFEF87E-152C-44A9-9D06-0A5B39F09B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8F9330F-3910-4B16-81F2-298F6688E8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5ABE0E5-E1FA-49E6-8BFB-FE553DEA1C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20A7525-75F3-490A-965A-C934911E13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10D9015-7C8C-4DB7-B36C-DD1A96D56D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DEECD55-57EC-457F-92A2-951DC0AA993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F49BC48-F51F-4694-9EAC-878E619EBB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FAE1A0D-541A-40C2-A7AB-67D95245F9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FB68D81-2FB3-431B-9424-02E03620C3C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CD3DDB3-FBE2-4270-9746-3E567CC22C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0C1E81B-23EF-46A2-9F20-E6C713E52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82960E1-54E7-46EE-B1BE-8A18E73EED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0A62EF8-FDCA-4462-9404-6BD5080EFF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9482F05-86F6-43D9-BF83-E64840BA29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600419B-4E55-45A9-ACC0-431E91C460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0144926-4DD9-4DED-BD8D-9BE3D03DAF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5A13A0C-CA30-48C4-8C7F-33C70D13F9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94C29BF-67B5-4216-814F-86EB1A0B85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F93037F-3E9B-4043-ABC0-3E504E8CEE5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860E80-39EE-42C0-8992-5E584BADE12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95DB3EF-E7E6-4381-AA55-9285CE12FC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55B9087-9063-4CA5-BA83-594F3B7D96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048A1-1447-4F3B-A9C8-625A5BB836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FB4F0-D5D1-4274-A80C-1B7F2A8B7A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545D4-7303-4772-BB70-C92016963C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2BCB8-56D2-4311-8996-01CE60FEA7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30B56-0288-43A1-8E8B-85DBFAE71C8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D5917-937D-452E-8C9B-F7BC6BBF01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88C90-8E11-4E7E-AEA2-AA4320DA3F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95688-5F3B-4A2A-A942-B33510D50F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95C06-ACDB-411F-BAB5-E69DE7B48C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53234-5CCA-408E-A1ED-DFDA96D1CC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2783A-A31F-4947-B154-E6BDE3EE48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F2A1A-AEE3-46B2-82C2-D6D190BFED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DBCB0-3D05-4605-8365-0C360B7C95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41" name=""/>
          <p:cNvGrpSpPr/>
          <p:nvPr/>
        </p:nvGrpSpPr>
        <p:grpSpPr>
          <a:xfrm>
            <a:off x="0" y="115920"/>
            <a:ext cx="9140760" cy="6548400"/>
            <a:chOff x="0" y="115920"/>
            <a:chExt cx="9140760" cy="6548400"/>
          </a:xfrm>
        </p:grpSpPr>
        <p:grpSp>
          <p:nvGrpSpPr>
            <p:cNvPr id="1442" name=""/>
            <p:cNvGrpSpPr/>
            <p:nvPr/>
          </p:nvGrpSpPr>
          <p:grpSpPr>
            <a:xfrm>
              <a:off x="0" y="115920"/>
              <a:ext cx="9140760" cy="6548400"/>
              <a:chOff x="0" y="115920"/>
              <a:chExt cx="9140760" cy="6548400"/>
            </a:xfrm>
          </p:grpSpPr>
          <p:sp>
            <p:nvSpPr>
              <p:cNvPr id="1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50" name=""/>
          <p:cNvGrpSpPr/>
          <p:nvPr/>
        </p:nvGrpSpPr>
        <p:grpSpPr>
          <a:xfrm>
            <a:off x="0" y="115920"/>
            <a:ext cx="9140760" cy="6548400"/>
            <a:chOff x="0" y="115920"/>
            <a:chExt cx="9140760" cy="6548400"/>
          </a:xfrm>
        </p:grpSpPr>
        <p:grpSp>
          <p:nvGrpSpPr>
            <p:cNvPr id="1451" name=""/>
            <p:cNvGrpSpPr/>
            <p:nvPr/>
          </p:nvGrpSpPr>
          <p:grpSpPr>
            <a:xfrm>
              <a:off x="0" y="115920"/>
              <a:ext cx="9140760" cy="6548400"/>
              <a:chOff x="0" y="115920"/>
              <a:chExt cx="9140760" cy="6548400"/>
            </a:xfrm>
          </p:grpSpPr>
          <p:sp>
            <p:nvSpPr>
              <p:cNvPr id="1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7"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9" name=""/>
          <p:cNvGrpSpPr/>
          <p:nvPr/>
        </p:nvGrpSpPr>
        <p:grpSpPr>
          <a:xfrm>
            <a:off x="0" y="115920"/>
            <a:ext cx="9140760" cy="6548400"/>
            <a:chOff x="0" y="115920"/>
            <a:chExt cx="9140760" cy="6548400"/>
          </a:xfrm>
        </p:grpSpPr>
        <p:grpSp>
          <p:nvGrpSpPr>
            <p:cNvPr id="1460" name=""/>
            <p:cNvGrpSpPr/>
            <p:nvPr/>
          </p:nvGrpSpPr>
          <p:grpSpPr>
            <a:xfrm>
              <a:off x="0" y="115920"/>
              <a:ext cx="9140760" cy="6548400"/>
              <a:chOff x="0" y="115920"/>
              <a:chExt cx="9140760" cy="6548400"/>
            </a:xfrm>
          </p:grpSpPr>
          <p:sp>
            <p:nvSpPr>
              <p:cNvPr id="1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6"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8" name=""/>
          <p:cNvGrpSpPr/>
          <p:nvPr/>
        </p:nvGrpSpPr>
        <p:grpSpPr>
          <a:xfrm>
            <a:off x="0" y="115920"/>
            <a:ext cx="9140760" cy="6548400"/>
            <a:chOff x="0" y="115920"/>
            <a:chExt cx="9140760" cy="6548400"/>
          </a:xfrm>
        </p:grpSpPr>
        <p:grpSp>
          <p:nvGrpSpPr>
            <p:cNvPr id="1469" name=""/>
            <p:cNvGrpSpPr/>
            <p:nvPr/>
          </p:nvGrpSpPr>
          <p:grpSpPr>
            <a:xfrm>
              <a:off x="0" y="115920"/>
              <a:ext cx="9140760" cy="6548400"/>
              <a:chOff x="0" y="115920"/>
              <a:chExt cx="9140760" cy="6548400"/>
            </a:xfrm>
          </p:grpSpPr>
          <p:sp>
            <p:nvSpPr>
              <p:cNvPr id="1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5" name=""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7" name=""/>
          <p:cNvGrpSpPr/>
          <p:nvPr/>
        </p:nvGrpSpPr>
        <p:grpSpPr>
          <a:xfrm>
            <a:off x="0" y="115920"/>
            <a:ext cx="9140760" cy="6548400"/>
            <a:chOff x="0" y="115920"/>
            <a:chExt cx="9140760" cy="6548400"/>
          </a:xfrm>
        </p:grpSpPr>
        <p:grpSp>
          <p:nvGrpSpPr>
            <p:cNvPr id="1478" name=""/>
            <p:cNvGrpSpPr/>
            <p:nvPr/>
          </p:nvGrpSpPr>
          <p:grpSpPr>
            <a:xfrm>
              <a:off x="0" y="115920"/>
              <a:ext cx="9140760" cy="6548400"/>
              <a:chOff x="0" y="115920"/>
              <a:chExt cx="9140760" cy="6548400"/>
            </a:xfrm>
          </p:grpSpPr>
          <p:sp>
            <p:nvSpPr>
              <p:cNvPr id="1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4" name=""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6" name=""/>
          <p:cNvGrpSpPr/>
          <p:nvPr/>
        </p:nvGrpSpPr>
        <p:grpSpPr>
          <a:xfrm>
            <a:off x="0" y="115920"/>
            <a:ext cx="9140760" cy="6548400"/>
            <a:chOff x="0" y="115920"/>
            <a:chExt cx="9140760" cy="6548400"/>
          </a:xfrm>
        </p:grpSpPr>
        <p:grpSp>
          <p:nvGrpSpPr>
            <p:cNvPr id="1487" name=""/>
            <p:cNvGrpSpPr/>
            <p:nvPr/>
          </p:nvGrpSpPr>
          <p:grpSpPr>
            <a:xfrm>
              <a:off x="0" y="115920"/>
              <a:ext cx="9140760" cy="6548400"/>
              <a:chOff x="0" y="115920"/>
              <a:chExt cx="9140760" cy="6548400"/>
            </a:xfrm>
          </p:grpSpPr>
          <p:sp>
            <p:nvSpPr>
              <p:cNvPr id="1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5" name=""/>
          <p:cNvGrpSpPr/>
          <p:nvPr/>
        </p:nvGrpSpPr>
        <p:grpSpPr>
          <a:xfrm>
            <a:off x="0" y="115920"/>
            <a:ext cx="9140760" cy="6548400"/>
            <a:chOff x="0" y="115920"/>
            <a:chExt cx="9140760" cy="6548400"/>
          </a:xfrm>
        </p:grpSpPr>
        <p:grpSp>
          <p:nvGrpSpPr>
            <p:cNvPr id="1496" name=""/>
            <p:cNvGrpSpPr/>
            <p:nvPr/>
          </p:nvGrpSpPr>
          <p:grpSpPr>
            <a:xfrm>
              <a:off x="0" y="115920"/>
              <a:ext cx="9140760" cy="6548400"/>
              <a:chOff x="0" y="115920"/>
              <a:chExt cx="9140760" cy="6548400"/>
            </a:xfrm>
          </p:grpSpPr>
          <p:sp>
            <p:nvSpPr>
              <p:cNvPr id="1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2" name=""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4" name=""/>
          <p:cNvGrpSpPr/>
          <p:nvPr/>
        </p:nvGrpSpPr>
        <p:grpSpPr>
          <a:xfrm>
            <a:off x="0" y="115920"/>
            <a:ext cx="9140760" cy="6548400"/>
            <a:chOff x="0" y="115920"/>
            <a:chExt cx="9140760" cy="6548400"/>
          </a:xfrm>
        </p:grpSpPr>
        <p:grpSp>
          <p:nvGrpSpPr>
            <p:cNvPr id="1505" name=""/>
            <p:cNvGrpSpPr/>
            <p:nvPr/>
          </p:nvGrpSpPr>
          <p:grpSpPr>
            <a:xfrm>
              <a:off x="0" y="115920"/>
              <a:ext cx="9140760" cy="6548400"/>
              <a:chOff x="0" y="115920"/>
              <a:chExt cx="9140760" cy="6548400"/>
            </a:xfrm>
          </p:grpSpPr>
          <p:sp>
            <p:nvSpPr>
              <p:cNvPr id="1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468360" y="1052640"/>
            <a:ext cx="8496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3" name=""/>
          <p:cNvGrpSpPr/>
          <p:nvPr/>
        </p:nvGrpSpPr>
        <p:grpSpPr>
          <a:xfrm>
            <a:off x="0" y="115920"/>
            <a:ext cx="9140760" cy="6548400"/>
            <a:chOff x="0" y="115920"/>
            <a:chExt cx="9140760" cy="6548400"/>
          </a:xfrm>
        </p:grpSpPr>
        <p:grpSp>
          <p:nvGrpSpPr>
            <p:cNvPr id="1514" name=""/>
            <p:cNvGrpSpPr/>
            <p:nvPr/>
          </p:nvGrpSpPr>
          <p:grpSpPr>
            <a:xfrm>
              <a:off x="0" y="115920"/>
              <a:ext cx="9140760" cy="6548400"/>
              <a:chOff x="0" y="115920"/>
              <a:chExt cx="9140760" cy="6548400"/>
            </a:xfrm>
          </p:grpSpPr>
          <p:sp>
            <p:nvSpPr>
              <p:cNvPr id="1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1392120"/>
            <a:ext cx="874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2" name=""/>
          <p:cNvGrpSpPr/>
          <p:nvPr/>
        </p:nvGrpSpPr>
        <p:grpSpPr>
          <a:xfrm>
            <a:off x="0" y="115920"/>
            <a:ext cx="9140760" cy="6548400"/>
            <a:chOff x="0" y="115920"/>
            <a:chExt cx="9140760" cy="6548400"/>
          </a:xfrm>
        </p:grpSpPr>
        <p:grpSp>
          <p:nvGrpSpPr>
            <p:cNvPr id="1523" name=""/>
            <p:cNvGrpSpPr/>
            <p:nvPr/>
          </p:nvGrpSpPr>
          <p:grpSpPr>
            <a:xfrm>
              <a:off x="0" y="115920"/>
              <a:ext cx="9140760" cy="6548400"/>
              <a:chOff x="0" y="115920"/>
              <a:chExt cx="9140760" cy="6548400"/>
            </a:xfrm>
          </p:grpSpPr>
          <p:sp>
            <p:nvSpPr>
              <p:cNvPr id="1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31" name=""/>
          <p:cNvGrpSpPr/>
          <p:nvPr/>
        </p:nvGrpSpPr>
        <p:grpSpPr>
          <a:xfrm>
            <a:off x="0" y="115920"/>
            <a:ext cx="9140760" cy="6548400"/>
            <a:chOff x="0" y="115920"/>
            <a:chExt cx="9140760" cy="6548400"/>
          </a:xfrm>
        </p:grpSpPr>
        <p:grpSp>
          <p:nvGrpSpPr>
            <p:cNvPr id="1532" name=""/>
            <p:cNvGrpSpPr/>
            <p:nvPr/>
          </p:nvGrpSpPr>
          <p:grpSpPr>
            <a:xfrm>
              <a:off x="0" y="115920"/>
              <a:ext cx="9140760" cy="6548400"/>
              <a:chOff x="0" y="115920"/>
              <a:chExt cx="9140760" cy="6548400"/>
            </a:xfrm>
          </p:grpSpPr>
          <p:sp>
            <p:nvSpPr>
              <p:cNvPr id="1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8" name=""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40" name=""/>
          <p:cNvGrpSpPr/>
          <p:nvPr/>
        </p:nvGrpSpPr>
        <p:grpSpPr>
          <a:xfrm>
            <a:off x="0" y="115920"/>
            <a:ext cx="9140760" cy="6548400"/>
            <a:chOff x="0" y="115920"/>
            <a:chExt cx="9140760" cy="6548400"/>
          </a:xfrm>
        </p:grpSpPr>
        <p:grpSp>
          <p:nvGrpSpPr>
            <p:cNvPr id="1541" name=""/>
            <p:cNvGrpSpPr/>
            <p:nvPr/>
          </p:nvGrpSpPr>
          <p:grpSpPr>
            <a:xfrm>
              <a:off x="0" y="115920"/>
              <a:ext cx="9140760" cy="6548400"/>
              <a:chOff x="0" y="115920"/>
              <a:chExt cx="9140760" cy="6548400"/>
            </a:xfrm>
          </p:grpSpPr>
          <p:sp>
            <p:nvSpPr>
              <p:cNvPr id="1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9" name=""/>
          <p:cNvGrpSpPr/>
          <p:nvPr/>
        </p:nvGrpSpPr>
        <p:grpSpPr>
          <a:xfrm>
            <a:off x="0" y="115920"/>
            <a:ext cx="9140760" cy="6548400"/>
            <a:chOff x="0" y="115920"/>
            <a:chExt cx="9140760" cy="6548400"/>
          </a:xfrm>
        </p:grpSpPr>
        <p:grpSp>
          <p:nvGrpSpPr>
            <p:cNvPr id="1550" name=""/>
            <p:cNvGrpSpPr/>
            <p:nvPr/>
          </p:nvGrpSpPr>
          <p:grpSpPr>
            <a:xfrm>
              <a:off x="0" y="115920"/>
              <a:ext cx="9140760" cy="6548400"/>
              <a:chOff x="0" y="115920"/>
              <a:chExt cx="9140760" cy="6548400"/>
            </a:xfrm>
          </p:grpSpPr>
          <p:sp>
            <p:nvSpPr>
              <p:cNvPr id="1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6" name=""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8" name=""/>
          <p:cNvGrpSpPr/>
          <p:nvPr/>
        </p:nvGrpSpPr>
        <p:grpSpPr>
          <a:xfrm>
            <a:off x="0" y="115920"/>
            <a:ext cx="9140760" cy="6548400"/>
            <a:chOff x="0" y="115920"/>
            <a:chExt cx="9140760" cy="6548400"/>
          </a:xfrm>
        </p:grpSpPr>
        <p:grpSp>
          <p:nvGrpSpPr>
            <p:cNvPr id="1559" name=""/>
            <p:cNvGrpSpPr/>
            <p:nvPr/>
          </p:nvGrpSpPr>
          <p:grpSpPr>
            <a:xfrm>
              <a:off x="0" y="115920"/>
              <a:ext cx="9140760" cy="6548400"/>
              <a:chOff x="0" y="115920"/>
              <a:chExt cx="9140760" cy="6548400"/>
            </a:xfrm>
          </p:grpSpPr>
          <p:sp>
            <p:nvSpPr>
              <p:cNvPr id="1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5" name=""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7" name=""/>
          <p:cNvGrpSpPr/>
          <p:nvPr/>
        </p:nvGrpSpPr>
        <p:grpSpPr>
          <a:xfrm>
            <a:off x="0" y="115920"/>
            <a:ext cx="9140760" cy="6548400"/>
            <a:chOff x="0" y="115920"/>
            <a:chExt cx="9140760" cy="6548400"/>
          </a:xfrm>
        </p:grpSpPr>
        <p:grpSp>
          <p:nvGrpSpPr>
            <p:cNvPr id="1568" name=""/>
            <p:cNvGrpSpPr/>
            <p:nvPr/>
          </p:nvGrpSpPr>
          <p:grpSpPr>
            <a:xfrm>
              <a:off x="0" y="115920"/>
              <a:ext cx="9140760" cy="6548400"/>
              <a:chOff x="0" y="115920"/>
              <a:chExt cx="9140760" cy="6548400"/>
            </a:xfrm>
          </p:grpSpPr>
          <p:sp>
            <p:nvSpPr>
              <p:cNvPr id="1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4" name=""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5" name=""/>
          <p:cNvGrpSpPr/>
          <p:nvPr/>
        </p:nvGrpSpPr>
        <p:grpSpPr>
          <a:xfrm>
            <a:off x="0" y="115920"/>
            <a:ext cx="9140760" cy="6548400"/>
            <a:chOff x="0" y="115920"/>
            <a:chExt cx="9140760" cy="6548400"/>
          </a:xfrm>
        </p:grpSpPr>
        <p:grpSp>
          <p:nvGrpSpPr>
            <p:cNvPr id="1586" name=""/>
            <p:cNvGrpSpPr/>
            <p:nvPr/>
          </p:nvGrpSpPr>
          <p:grpSpPr>
            <a:xfrm>
              <a:off x="0" y="115920"/>
              <a:ext cx="9140760" cy="6548400"/>
              <a:chOff x="0" y="115920"/>
              <a:chExt cx="9140760" cy="6548400"/>
            </a:xfrm>
          </p:grpSpPr>
          <p:sp>
            <p:nvSpPr>
              <p:cNvPr id="1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11280" y="1392120"/>
            <a:ext cx="8281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4" name=""/>
          <p:cNvGrpSpPr/>
          <p:nvPr/>
        </p:nvGrpSpPr>
        <p:grpSpPr>
          <a:xfrm>
            <a:off x="0" y="115920"/>
            <a:ext cx="9140760" cy="6548400"/>
            <a:chOff x="0" y="115920"/>
            <a:chExt cx="9140760" cy="6548400"/>
          </a:xfrm>
        </p:grpSpPr>
        <p:grpSp>
          <p:nvGrpSpPr>
            <p:cNvPr id="1595" name=""/>
            <p:cNvGrpSpPr/>
            <p:nvPr/>
          </p:nvGrpSpPr>
          <p:grpSpPr>
            <a:xfrm>
              <a:off x="0" y="115920"/>
              <a:ext cx="9140760" cy="6548400"/>
              <a:chOff x="0" y="115920"/>
              <a:chExt cx="9140760" cy="6548400"/>
            </a:xfrm>
          </p:grpSpPr>
          <p:sp>
            <p:nvSpPr>
              <p:cNvPr id="1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3" name=""/>
          <p:cNvGrpSpPr/>
          <p:nvPr/>
        </p:nvGrpSpPr>
        <p:grpSpPr>
          <a:xfrm>
            <a:off x="0" y="115920"/>
            <a:ext cx="9140760" cy="6548400"/>
            <a:chOff x="0" y="115920"/>
            <a:chExt cx="9140760" cy="6548400"/>
          </a:xfrm>
        </p:grpSpPr>
        <p:grpSp>
          <p:nvGrpSpPr>
            <p:cNvPr id="1604" name=""/>
            <p:cNvGrpSpPr/>
            <p:nvPr/>
          </p:nvGrpSpPr>
          <p:grpSpPr>
            <a:xfrm>
              <a:off x="0" y="115920"/>
              <a:ext cx="9140760" cy="6548400"/>
              <a:chOff x="0" y="115920"/>
              <a:chExt cx="9140760" cy="6548400"/>
            </a:xfrm>
          </p:grpSpPr>
          <p:sp>
            <p:nvSpPr>
              <p:cNvPr id="1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12" name="" descr=""/>
          <p:cNvPicPr/>
          <p:nvPr/>
        </p:nvPicPr>
        <p:blipFill>
          <a:blip r:embed="rId1"/>
          <a:stretch/>
        </p:blipFill>
        <p:spPr>
          <a:xfrm>
            <a:off x="0" y="0"/>
            <a:ext cx="9144000" cy="1368360"/>
          </a:xfrm>
          <a:prstGeom prst="rect">
            <a:avLst/>
          </a:prstGeom>
          <a:ln w="0">
            <a:noFill/>
          </a:ln>
        </p:spPr>
      </p:pic>
      <p:pic>
        <p:nvPicPr>
          <p:cNvPr id="1613" name="" descr=""/>
          <p:cNvPicPr/>
          <p:nvPr/>
        </p:nvPicPr>
        <p:blipFill>
          <a:blip r:embed="rId2"/>
          <a:stretch/>
        </p:blipFill>
        <p:spPr>
          <a:xfrm>
            <a:off x="1258920" y="2060640"/>
            <a:ext cx="1297080" cy="1528560"/>
          </a:xfrm>
          <a:prstGeom prst="rect">
            <a:avLst/>
          </a:prstGeom>
          <a:ln w="0">
            <a:noFill/>
          </a:ln>
        </p:spPr>
      </p:pic>
      <p:pic>
        <p:nvPicPr>
          <p:cNvPr id="1614" name="" descr=""/>
          <p:cNvPicPr/>
          <p:nvPr/>
        </p:nvPicPr>
        <p:blipFill>
          <a:blip r:embed="rId3"/>
          <a:stretch/>
        </p:blipFill>
        <p:spPr>
          <a:xfrm>
            <a:off x="6948360" y="1989000"/>
            <a:ext cx="1444680" cy="1573200"/>
          </a:xfrm>
          <a:prstGeom prst="rect">
            <a:avLst/>
          </a:prstGeom>
          <a:ln w="0">
            <a:noFill/>
          </a:ln>
        </p:spPr>
      </p:pic>
      <p:sp>
        <p:nvSpPr>
          <p:cNvPr id="161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1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981000"/>
            <a:ext cx="8101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4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1125360"/>
            <a:ext cx="86421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052640"/>
            <a:ext cx="8713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5092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611280" y="1413000"/>
            <a:ext cx="820872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3964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2400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052640"/>
            <a:ext cx="86421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4" name=""/>
          <p:cNvGrpSpPr/>
          <p:nvPr/>
        </p:nvGrpSpPr>
        <p:grpSpPr>
          <a:xfrm>
            <a:off x="0" y="115920"/>
            <a:ext cx="9140760" cy="6548400"/>
            <a:chOff x="0" y="115920"/>
            <a:chExt cx="9140760" cy="6548400"/>
          </a:xfrm>
        </p:grpSpPr>
        <p:grpSp>
          <p:nvGrpSpPr>
            <p:cNvPr id="1415" name=""/>
            <p:cNvGrpSpPr/>
            <p:nvPr/>
          </p:nvGrpSpPr>
          <p:grpSpPr>
            <a:xfrm>
              <a:off x="0" y="115920"/>
              <a:ext cx="9140760" cy="6548400"/>
              <a:chOff x="0" y="115920"/>
              <a:chExt cx="9140760" cy="6548400"/>
            </a:xfrm>
          </p:grpSpPr>
          <p:sp>
            <p:nvSpPr>
              <p:cNvPr id="1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8:25Z</dcterms:modified>
  <cp:revision>176</cp:revision>
  <dc:subject/>
  <dc:title>Παρουσίαση του PowerPoint</dc:title>
</cp:coreProperties>
</file>